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53D-494A-4088-AE23-1F2D7D80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0C6-7B13-4A6B-9BBF-F0B8A374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233-0519-438B-B14C-B6B7B42D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45B-C311-4720-9B43-4496C48C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E401-CC6D-48BD-8512-999FA93E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E51C-24F8-44E7-8A7B-0B0ED1CB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6457-0B59-4686-AC22-AB62E741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E89E-728A-4F13-927B-9E47DEC5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039F-C6DF-4683-A0F4-F851007A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5A92-8340-44F4-8BB0-791FDA00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3C4A-5E59-420D-B644-0B4D6E04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994-AC2F-43A2-83FF-E2C09697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DF4C-4259-4681-B136-CF625EA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4299-B2B7-49AB-9880-C6ED92B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38CC-A44B-4978-8497-C45DD89D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0869-C518-48E4-B3D3-152BD6A1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8D58-8548-40BA-8B7E-C4E71C75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66C-4EC8-4F36-9F9E-72197DBD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8C4-00BB-4767-97E3-03BF4889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32D-2190-4DBF-B70A-E60E4272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AC2-AE2C-4A19-8F39-2CE80C00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E68-2951-456A-B7B8-49F29A7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0D2-148E-4DE2-8ABD-508356CA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053-2365-4BDA-8396-FEBC744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D22-BD08-4D38-95CF-C3E9BB8B74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B3BD-2C09-45C0-A439-0DDBC960FC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&lt;&lt;Breakout Name / Session #&gt;&gt;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0-07-15T19:30:47Z</dcterms:modified>
  <cp:revision>126</cp:revision>
  <dc:subject/>
  <dc:title>Slide 1</dc:title>
</cp:coreProperties>
</file>